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D8C7-1605-4D8B-B27B-AA20237F1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3FDC-BE6B-4BBE-A429-81972A418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5D65-AD32-45FA-AC03-5B7C2364A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D997-5A74-4C92-96CF-65F648786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3164-AEC2-49C3-B8A4-9A27CFA1E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069E-9AED-4ED5-A613-8DB655980F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0DDC-E9BC-4075-8D0E-561331AE8F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486-EEF9-46A1-BA83-E3776F4FED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A492-A54C-4592-9380-4E3A610BB6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88F8-382D-4CEB-95AC-9E27411AD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4B73-E5E3-4BB0-8C1F-92AC40CB7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33D9-1C77-414B-8A33-7A9F487138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B6AA-0FDA-4E1E-A9AB-584FB76DBE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3594-C39B-414E-9F84-1F25F41278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F9EB-1F7E-46E5-8223-7FB31DF1E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B65D-7345-49B5-ABFA-39633CCEB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DC96-8940-426F-A8DC-B65FB65A62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C635-90A9-4669-8002-3FCFD35809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880-19E0-4EA5-8E4E-2D98C3B8E3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29A-0A7B-4D2B-A1A7-3C731047C9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6B5-0BC9-4DCC-BDC8-1CAF0FFD0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1193-3E7F-4D9A-B103-811A8A6C84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D0C-2551-4479-BD48-1E001B246A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EA9-C521-4579-9E28-3D14709067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167-8F85-4BBE-97AF-FF538513DD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422-BEFF-48CC-A291-71B3D411F1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081-60A4-4FF3-B161-00264845B7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DA6-B1C1-4AB9-8E80-20C66F39C8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87A-32D2-4E16-BA07-BC0E0EB0EA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00F-2630-49D2-84FF-A585B4B160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7A0-9DB4-4E6F-81A7-F4683377FA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CA20F-2C1F-4210-9858-342DA1B65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CB1F-C283-47BB-B10F-D4445DA45D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C60EF-1200-4F9D-9F4C-456350D1DA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FB302-8058-4206-8782-80F4A0EB6D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43BC-A71D-42C1-8A2C-B8130F36C3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0D30-6C44-4259-81EE-436CD6FC2E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796B-4AB8-416B-91D4-8CDD93423D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262B-CCFE-4DA0-A43B-D8267CC788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0D018-8AB3-4832-9440-F0B0AF882A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DA408-F146-47AE-89D4-9AE01F9926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2C2B-6AB4-4565-9BB5-DF5D7CB4C5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95C81-D501-4126-B120-A73EA17D6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0AE5-1510-437D-8A67-9E9CB1D448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4EDD-4111-4CE2-986E-A0198B5A6B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22376-EBF8-4565-A707-6D002A1DBE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6B267-7C6D-44E4-9E83-033E27F1D4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CB2EF-7E26-46E2-893D-C986FD8624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C760-7881-4D1E-8294-917F71585A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9BD8E-33C7-4AD7-B2DB-0D0277B155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5971-FF58-4160-B2C8-5E94E312B7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7303-BBD1-419D-9AC1-B9BB22F6B2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2C57-6ED3-4395-A3CD-EE294BC43A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738C7-3625-4066-BA1A-937F49F13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DDE8-DD7F-4667-8B7D-B945D4E272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ACB6-B4CB-4B63-86F9-D0FC005E20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A3E1-DF2E-464E-8448-EE126D8EE4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6D52D-FF18-4A8E-B2BF-F0BDEB7EA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667D-D0FF-4D22-AA9D-2EEE02F58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690-AA5F-4DD7-8E0B-25A63E27F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CDAE-2171-4470-9647-39DCE88720E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F8F-C95B-429C-962E-0E7989BF6EE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05B-B2E3-493E-B05B-EEDEBF67E78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8BFE-C20E-47C0-86D6-15E81D8409E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C90-F03B-439A-811D-1F55B7327FD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286000" y="1546200"/>
            <a:ext cx="4476600" cy="434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2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5A9C-CCBD-4F7D-8279-CBACE448A2C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rmula is an equation that performs a calculation and displays the results in the cell. The formula is visible in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rmula is keyed into a cell, or it can be built by point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begin with an = sign and use arithmetic operat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684540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85800" y="1295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hen you key a letter after the = sign, you’ll see the Formula AutoComplete list. Ignore it when it does not suit what you are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2"/>
          <a:srcRect l="0" t="0" r="44603" b="0"/>
          <a:stretch/>
        </p:blipFill>
        <p:spPr>
          <a:xfrm>
            <a:off x="685800" y="2209680"/>
            <a:ext cx="379404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9" name="Picture 5" descr=""/>
          <p:cNvPicPr/>
          <p:nvPr/>
        </p:nvPicPr>
        <p:blipFill>
          <a:blip r:embed="rId3"/>
          <a:srcRect l="0" t="0" r="15988" b="0"/>
          <a:stretch/>
        </p:blipFill>
        <p:spPr>
          <a:xfrm>
            <a:off x="4724280" y="4419720"/>
            <a:ext cx="4173480" cy="18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TextBox 6"/>
          <p:cNvSpPr/>
          <p:nvPr/>
        </p:nvSpPr>
        <p:spPr>
          <a:xfrm>
            <a:off x="4876920" y="34322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Formula Auto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Straight Arrow Connector 8"/>
          <p:cNvCxnSpPr/>
          <p:nvPr/>
        </p:nvCxnSpPr>
        <p:spPr>
          <a:xfrm flipH="1">
            <a:off x="4479480" y="3585960"/>
            <a:ext cx="473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838080" y="15238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art with the = sign, point to the first cell and click. Then key the arithmetic operator and point/click the next cell. Press [Enter] to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"/>
          <p:cNvSpPr/>
          <p:nvPr/>
        </p:nvSpPr>
        <p:spPr>
          <a:xfrm>
            <a:off x="5867280" y="441972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3" descr=""/>
          <p:cNvPicPr/>
          <p:nvPr/>
        </p:nvPicPr>
        <p:blipFill>
          <a:blip r:embed="rId2"/>
          <a:stretch/>
        </p:blipFill>
        <p:spPr>
          <a:xfrm>
            <a:off x="954000" y="2590920"/>
            <a:ext cx="758052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" name="Oval 14"/>
          <p:cNvSpPr/>
          <p:nvPr/>
        </p:nvSpPr>
        <p:spPr>
          <a:xfrm>
            <a:off x="5943600" y="4267080"/>
            <a:ext cx="914400" cy="48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3886200" y="2438280"/>
            <a:ext cx="914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3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DB18-4E15-4E83-AABE-DB6859B4931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51076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nt commands include a font name, a style (bold, italic), size, and col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is a set of format choices that can include font settings, borders, fill, and alignment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pply font choices or cell styles, the cells should first be selec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rcRect l="0" t="0" r="0" b="30369"/>
          <a:stretch/>
        </p:blipFill>
        <p:spPr>
          <a:xfrm>
            <a:off x="876240" y="1709640"/>
            <a:ext cx="7962840" cy="41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Oval 3"/>
          <p:cNvSpPr/>
          <p:nvPr/>
        </p:nvSpPr>
        <p:spPr>
          <a:xfrm>
            <a:off x="1371600" y="1752480"/>
            <a:ext cx="18288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range is a group of cells that forms a rectangle. The range address is the upper-left cell address, a colon, and the lower-right cell addre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67224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180-1794-475F-A59D-4D4F6AEE36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023840" y="195120"/>
            <a:ext cx="8217000" cy="8226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ag across adjacent cells to select a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rst cell in the range. Hold down [Shift] and click the last cell in the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a column heading letter to select a column or click a row heading number to select a r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ag across adjacent column heading letters or row heading numbers to select multiple columns or row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Select All button        to select every cell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7" descr="2-5"/>
          <p:cNvPicPr/>
          <p:nvPr/>
        </p:nvPicPr>
        <p:blipFill>
          <a:blip r:embed="rId2"/>
          <a:stretch/>
        </p:blipFill>
        <p:spPr>
          <a:xfrm>
            <a:off x="4981680" y="5257800"/>
            <a:ext cx="352440" cy="31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-6480"/>
            <a:ext cx="8454960" cy="115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6006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Mini toolbar appears when you select text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 cel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provides commands for formatting the selected da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75920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rcRect l="0" t="0" r="62858" b="47726"/>
          <a:stretch/>
        </p:blipFill>
        <p:spPr>
          <a:xfrm>
            <a:off x="3352680" y="2463840"/>
            <a:ext cx="3733920" cy="39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8" name="Rectangle 2" descr=""/>
          <p:cNvPicPr/>
          <p:nvPr/>
        </p:nvPicPr>
        <p:blipFill>
          <a:blip r:embed="rId2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3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Format Painter is available in all Office applications. You can quickly copy cell formats from one cell to anothe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176840" y="4191120"/>
            <a:ext cx="201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Format being cop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1203480" y="518148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Cell to b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4"/>
          <p:cNvCxnSpPr/>
          <p:nvPr/>
        </p:nvCxnSpPr>
        <p:spPr>
          <a:xfrm>
            <a:off x="3068280" y="4343040"/>
            <a:ext cx="43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Straight Arrow Connector 13"/>
          <p:cNvCxnSpPr/>
          <p:nvPr/>
        </p:nvCxnSpPr>
        <p:spPr>
          <a:xfrm>
            <a:off x="2933640" y="533664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9724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CD6-8BCD-421A-BE4E-E542D592C36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350200" cy="8463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1828800" y="3276720"/>
            <a:ext cx="36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me number formats are available on the Ribb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704880" y="1523880"/>
            <a:ext cx="56959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Picture 4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1981080" cy="42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350200" cy="846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3160" y="2201760"/>
            <a:ext cx="38862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essing [Ctrl]+[1]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ght-clicking the cell or range and choosing Format Cell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 the Home tab in the Cells group, clicking the Format button             and choosing Format Cell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762120" y="1295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ny more formats are available in the Format Cells dialog box. Open the Format Cells dialog box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2971800" y="4597560"/>
            <a:ext cx="38088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4487760" cy="40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7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2204-1184-4B54-A2A5-001B130B76B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9320" y="1295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ie chart graphs one set of values from the worksheet. Each slice represents one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1905120" y="2376360"/>
            <a:ext cx="558144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33520" y="2286000"/>
            <a:ext cx="228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Chart Tools command tabs are available when a chart object is sel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4" descr="214-Fig02-11.png"/>
          <p:cNvPicPr/>
          <p:nvPr/>
        </p:nvPicPr>
        <p:blipFill>
          <a:blip r:embed="rId2"/>
          <a:stretch/>
        </p:blipFill>
        <p:spPr>
          <a:xfrm>
            <a:off x="2844720" y="1523880"/>
            <a:ext cx="5994360" cy="44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BF04-0A7A-49CA-B320-A4E8C0FF802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762120" y="1752120"/>
            <a:ext cx="228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t objects include a title and a leg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5" descr="214-Fig02-12.png"/>
          <p:cNvPicPr/>
          <p:nvPr/>
        </p:nvPicPr>
        <p:blipFill>
          <a:blip r:embed="rId2"/>
          <a:stretch/>
        </p:blipFill>
        <p:spPr>
          <a:xfrm>
            <a:off x="3327480" y="1314360"/>
            <a:ext cx="55116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8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123-8D35-4B8A-9999-1F19CF65079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04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ocument theme includes 2 fonts, 12 colors, and special effec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document theme for an Excel workbook is name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ffi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It uses Calibri as the Body font and Cambria as the Headings fo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ange the document theme to any theme listed in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your own document the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rcRect l="0" t="0" r="52933" b="29311"/>
          <a:stretch/>
        </p:blipFill>
        <p:spPr>
          <a:xfrm>
            <a:off x="3200400" y="1371600"/>
            <a:ext cx="2797200" cy="48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rcRect l="0" t="0" r="62542" b="23178"/>
          <a:stretch/>
        </p:blipFill>
        <p:spPr>
          <a:xfrm>
            <a:off x="4654440" y="1298520"/>
            <a:ext cx="326736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7" name="Rectangle 3"/>
          <p:cNvSpPr/>
          <p:nvPr/>
        </p:nvSpPr>
        <p:spPr>
          <a:xfrm>
            <a:off x="914400" y="1828800"/>
            <a:ext cx="3429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me fonts are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isted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at the top of the Font list. You are not limited to theme fonts; you can choose any font in your li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ame applies to theme col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"/>
          <p:cNvSpPr/>
          <p:nvPr/>
        </p:nvSpPr>
        <p:spPr>
          <a:xfrm>
            <a:off x="5181480" y="1828800"/>
            <a:ext cx="2740320" cy="954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231920" y="-139680"/>
            <a:ext cx="66992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name a worksheet with a descriptive name that uses 31 or fewer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oose a color for the worksheet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1743120" y="3124080"/>
            <a:ext cx="587700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0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833720" cy="151128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81D-B1E8-4327-B712-DEC8F00A41B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2" descr=""/>
          <p:cNvPicPr/>
          <p:nvPr/>
        </p:nvPicPr>
        <p:blipFill>
          <a:blip r:embed="rId1"/>
          <a:stretch/>
        </p:blipFill>
        <p:spPr>
          <a:xfrm>
            <a:off x="1379520" y="2087640"/>
            <a:ext cx="6934320" cy="4249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1371600" y="2098800"/>
            <a:ext cx="6934320" cy="42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Rectangle 2" descr=""/>
          <p:cNvPicPr/>
          <p:nvPr/>
        </p:nvPicPr>
        <p:blipFill>
          <a:blip r:embed="rId3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762120" y="2590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Left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6705720" y="2590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ight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"/>
          <p:cNvSpPr/>
          <p:nvPr/>
        </p:nvSpPr>
        <p:spPr>
          <a:xfrm>
            <a:off x="6610320" y="2274840"/>
            <a:ext cx="380880" cy="15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6"/>
          <p:cNvCxnSpPr/>
          <p:nvPr/>
        </p:nvCxnSpPr>
        <p:spPr>
          <a:xfrm flipH="1" flipV="1">
            <a:off x="6857280" y="2361960"/>
            <a:ext cx="610200" cy="25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Straight Arrow Connector 10"/>
          <p:cNvCxnSpPr>
            <a:stCxn id="408" idx="0"/>
          </p:cNvCxnSpPr>
          <p:nvPr/>
        </p:nvCxnSpPr>
        <p:spPr>
          <a:xfrm flipV="1">
            <a:off x="1600200" y="236160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3" name="TextBox 24"/>
          <p:cNvSpPr/>
          <p:nvPr/>
        </p:nvSpPr>
        <p:spPr>
          <a:xfrm>
            <a:off x="411120" y="36576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op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13"/>
          <p:cNvCxnSpPr/>
          <p:nvPr/>
        </p:nvCxnSpPr>
        <p:spPr>
          <a:xfrm flipV="1">
            <a:off x="849240" y="3117600"/>
            <a:ext cx="4896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Oval 33"/>
          <p:cNvSpPr/>
          <p:nvPr/>
        </p:nvSpPr>
        <p:spPr>
          <a:xfrm>
            <a:off x="6618240" y="2263680"/>
            <a:ext cx="380880" cy="15408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0"/>
          <p:cNvSpPr/>
          <p:nvPr/>
        </p:nvSpPr>
        <p:spPr>
          <a:xfrm>
            <a:off x="1311120" y="2898720"/>
            <a:ext cx="212760" cy="378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3651120" y="513864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yed blank page means the worksheet does fit on a singl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23"/>
          <p:cNvCxnSpPr/>
          <p:nvPr/>
        </p:nvCxnSpPr>
        <p:spPr>
          <a:xfrm>
            <a:off x="6762240" y="5283000"/>
            <a:ext cx="1086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TextBox 16"/>
          <p:cNvSpPr/>
          <p:nvPr/>
        </p:nvSpPr>
        <p:spPr>
          <a:xfrm>
            <a:off x="2209680" y="1295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age Layout View displays margin and column markers. They can be dragged to new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eader prints at the top of each page in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oter prints at the bottom of each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ders/footers can each have up to three sec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oose from preset header and footer arrangements or create your ow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rcRect l="0" t="0" r="0" b="29552"/>
          <a:stretch/>
        </p:blipFill>
        <p:spPr>
          <a:xfrm>
            <a:off x="838080" y="1676520"/>
            <a:ext cx="7788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TextBox 5"/>
          <p:cNvSpPr/>
          <p:nvPr/>
        </p:nvSpPr>
        <p:spPr>
          <a:xfrm>
            <a:off x="6095880" y="58294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yed blank page means the worksheet fits on a singl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6"/>
          <p:cNvCxnSpPr/>
          <p:nvPr/>
        </p:nvCxnSpPr>
        <p:spPr>
          <a:xfrm flipV="1">
            <a:off x="7543440" y="4528800"/>
            <a:ext cx="1080" cy="126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944640" y="-6480"/>
            <a:ext cx="83088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762120" y="1523880"/>
            <a:ext cx="7924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nformation are you analyzing? What type of solution are you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ata will be used? Will it be keyed? Will it be downloaded or copied from another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arithmetic be required in the worksheet? If so, what type of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 there Excel functions that will do the arithmetic? Or will you build formu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9144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fore beginning a workbook, analyze the data and determine what you want to sh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an your worksheet layout and experiment to develop a logical, easy-to-read repor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recognizes data by the first character you key. You can key values, labels, dates, and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914040" y="1523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bels are aligned at the left edge of a cell and can spill into the next column if it is empty. Otherwise, they appear cut off on the scre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lues and dates are right-aligned in the cell. There are several preset formats for both values and da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oCorrect corrects some typographical errors for labels as you key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142640" y="16002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keyed in a cell using arithmetic symbols and cell references. You can also point to a cell to add its address to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ormulas use a relative reference so that, when copied, they are updated to show the row and column in which copies are loca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99036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ont and style commands can be applied to a cell range, a group of cel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s can be selected using the mouse or keyboard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formats, such as Accounting Number, can be applied from the Ribbon. Other formats are available in the Format Cells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is a preset collection of format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1142640" y="175248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ocument theme is a collection of colors, fonts, and effects for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w workbooks us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ffi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document the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pply a new theme to a workbook from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990720" y="182880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ie chart is a popular chart type used to represent one set of numbers from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worksheet tab name can be changed to a more descriptive name. You can also change the worksheet tab color for visual c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14400" y="16002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Layout view provides quick access to changing margins and column widths, as well as setting headers and foo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eader prints at the top of every page. It often includes some type of documentation for the workshee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oter prints at the bottom of every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023840" y="128520"/>
            <a:ext cx="8309160" cy="822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838080" y="1606680"/>
            <a:ext cx="77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the workbook be used on a routine basis? Will data be added to the workbook regularly? Is it a one-tim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other workers use your work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there a particular style or format that is exp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it be distributed outside your place of employment? How will it be distrib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079640" y="171360"/>
            <a:ext cx="8107200" cy="846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appears in the active cell and the formula bar as it is being key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tart over for an entry, press         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edit the entry, press              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that begins with a letter is recognized as a lab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bels are aligned at the left edge of the cell and are not used in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83808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27244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140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assumes an entry that starts with a number or an arithmetic symbol is a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value is right-aligned in the cell and is included in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lues are formatted in General style as a defa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recognizes dates when keyed in a typical date sty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have special formats and can be used in date arithmeti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692280" y="1890720"/>
            <a:ext cx="8223120" cy="29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9144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oCorrect makes some spelling corrections as you type. For example, it corrects “teh” to “th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automatically capitalizes the days of the week and the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oCorrect corrects capitalization errors such as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aids in efficient data e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6:17Z</dcterms:modified>
  <cp:revision>81</cp:revision>
  <dc:subject/>
  <dc:title>Microsoft office</dc:title>
</cp:coreProperties>
</file>